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62939"/>
        <c:axId val="14711479"/>
      </c:barChart>
      <c:catAx>
        <c:axId val="53562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1479"/>
        <c:crosses val="autoZero"/>
        <c:auto val="1"/>
        <c:lblAlgn val="ctr"/>
        <c:lblOffset val="100"/>
        <c:noMultiLvlLbl val="0"/>
      </c:catAx>
      <c:valAx>
        <c:axId val="14711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62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F71-B2BF-48EF-878E-BC5306FF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B79-EB89-440D-B8F4-D184E8FE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3F8-3847-4DB4-B1F9-1A4EC7C2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69B-C376-49F2-A161-FFA7BFF6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34F-6823-44B7-B451-C9C7ECB8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E2A-3BEA-48A5-A413-4500257E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608-21B2-4CE9-B308-962A7523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DB5-2148-4300-BED4-865F20AA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4A2-1667-40DE-A832-79926D28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6F0-3C34-45FC-B059-2C104B88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FE6-CF12-41CA-9014-94D067F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ADC-51DE-4803-81FC-AF9EE7EF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364B7-9DF0-49C5-ABF3-5CEC8BCF4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