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043922"/>
        <c:axId val="40611652"/>
      </c:barChart>
      <c:catAx>
        <c:axId val="940439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611652"/>
        <c:crosses val="autoZero"/>
        <c:auto val="1"/>
        <c:lblAlgn val="ctr"/>
        <c:lblOffset val="100"/>
        <c:noMultiLvlLbl val="0"/>
      </c:catAx>
      <c:valAx>
        <c:axId val="406116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439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DCAD-72A6-41D9-A622-A3CC79C8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4F7B-0D94-4DB8-895E-6673E3E0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BE18-666B-4F71-8B6A-87442C8AB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5EF1-FA39-4BE9-982D-7E66DB8FE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C286-7E09-4AD0-AB80-80D1502E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7F87-C16A-425E-9932-AE699EB5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DBF1-7BE3-4D65-9235-7F7F5A99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8F5C-340A-450D-970B-CD8BB963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484D-DA84-49C9-ABE7-DD6A901C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9D33-2330-492E-AF38-6FA5E05B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4BA9-3E60-41CF-84FE-7B1F7809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0513-AA6B-4832-88BD-01A65B7A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E8FC1-D6DE-4111-8164-C6023CC6EE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